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F0B8-15CB-48CC-9372-3E4104705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4E25-0EC2-4409-92EC-32B31F807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9848-FD58-44BB-8919-0D5110F8D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0C96-4777-4162-BF44-442D33295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76422-0B5D-4007-9748-12516C6ED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2F90F-8C9D-472A-922C-027DF9D2A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A8FCB-B950-48D4-98CA-FED7FB079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88813-5763-48E0-A2D5-DF4159B8D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4C784-8C7E-4306-87A8-F3789C455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D0959-7909-4CE7-B3F8-2FDE339E5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7D350-3908-429A-81A2-22F2FEDA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A983-D6A1-4AF1-ABD7-ECB480B7A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1494D-5B25-4B2B-8E99-529F14F9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44B4C-1183-40AE-A6E6-94D2C746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ADD7B-4046-4715-A2C6-E3712003E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DF362-326B-4AC3-BB3E-A6A885048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BAFD6-87CE-4361-85EC-9277C6C3C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F8CF-9407-4133-B616-D5F0489BD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2AA3-1BDC-40CB-870E-F1739F7C0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7AFA-CABA-4540-B3EA-83E21ADE5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0C9D-3B8F-4FAC-BCB3-297FBEB59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1888-C72C-4FC4-8435-1AE664CDC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D0E3-30FB-418C-9F94-C370B8C9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CF13-581C-420F-90D6-8E047642A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9aea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67CA5-F01C-4CA3-9950-57E49448121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9aea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4941D-7272-4A0B-9540-72560AF3F381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file:///tmp/home/.config/libreoffice/4/user/gallery/whoosh.wav" TargetMode="External"/><Relationship Id="rId3" Type="http://schemas.microsoft.com/office/2007/relationships/media" Target="file:///tmp/home/.config/libreoffice/4/user/gallery/whoosh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ccff"/>
            </a:gs>
            <a:gs pos="100000">
              <a:srgbClr val="9aea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SUN_02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 rot="28800">
            <a:off x="2514600" y="1905120"/>
            <a:ext cx="4086360" cy="109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20644"/>
                <a:gd name="adj2" fmla="val 95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Ravie"/>
              </a:rPr>
              <a:t>Lesson 53</a:t>
            </a:r>
            <a:endParaRPr b="1" i="1" lang="en-US" sz="4800" spc="1" strike="noStrike">
              <a:ln w="9360">
                <a:solidFill>
                  <a:srgbClr val="0000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Ravie"/>
              <a:ea typeface="Ravie"/>
            </a:endParaRPr>
          </a:p>
        </p:txBody>
      </p:sp>
      <p:pic>
        <p:nvPicPr>
          <p:cNvPr id="100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228600" y="6400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467960" y="4811760"/>
            <a:ext cx="34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9aeafe"/>
                </a:solidFill>
                <a:latin typeface="zypyyb"/>
                <a:ea typeface="zypyyb"/>
              </a:rPr>
              <a:t>By TianFengcha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95680" y="5334120"/>
            <a:ext cx="464832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ccff"/>
                </a:solidFill>
                <a:latin typeface="幼圆"/>
                <a:ea typeface="幼圆"/>
              </a:rPr>
              <a:t>No.1 Middle School of Jiaojiang Taizhou,Zhejia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9aea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38080" y="6094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Listen to the tape and then answer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15440" y="1143000"/>
            <a:ext cx="377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following ques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01760" y="2133720"/>
            <a:ext cx="666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Tahoma"/>
              </a:rPr>
              <a:t>1.What are Jane and Zhou Lan talking abou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32080" y="2590920"/>
            <a:ext cx="50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Tahoma"/>
              </a:rPr>
              <a:t>They are talking about their pl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47920" y="2971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86640" y="3124080"/>
            <a:ext cx="737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Tahoma"/>
              </a:rPr>
              <a:t>2.Why won’t Zhou Lan go walking around Lond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76720" y="3616200"/>
            <a:ext cx="31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Tahoma"/>
              </a:rPr>
              <a:t>Because it’s too w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87720" y="4224240"/>
            <a:ext cx="56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Tahoma"/>
              </a:rPr>
              <a:t>3.Where will Jane and Zhou Lan go 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09760" y="4724280"/>
            <a:ext cx="31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Tahoma"/>
              </a:rPr>
              <a:t>The Science Muse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SUN_034" descr=""/>
          <p:cNvPicPr/>
          <p:nvPr/>
        </p:nvPicPr>
        <p:blipFill>
          <a:blip r:embed="rId1"/>
          <a:stretch/>
        </p:blipFill>
        <p:spPr>
          <a:xfrm>
            <a:off x="1219320" y="6019920"/>
            <a:ext cx="761976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ccff"/>
            </a:gs>
            <a:gs pos="100000">
              <a:srgbClr val="9aea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584800" y="228600"/>
            <a:ext cx="357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Language po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32400" y="1066680"/>
            <a:ext cx="164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ahoma"/>
              </a:rPr>
              <a:t>1.feel l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92040" y="1371600"/>
            <a:ext cx="35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ahoma"/>
              </a:rPr>
              <a:t>(1)seem to be </a:t>
            </a:r>
            <a:r>
              <a:rPr b="0" lang="zh-CN" sz="2400" spc="-1" strike="noStrike">
                <a:solidFill>
                  <a:srgbClr val="ff0066"/>
                </a:solidFill>
                <a:latin typeface="Tahoma"/>
              </a:rPr>
              <a:t>象是；摸起来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47920" y="2743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64680" y="1676520"/>
            <a:ext cx="243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I feel like a f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41640" y="1981080"/>
            <a:ext cx="28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It feels like cott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66600" y="2286000"/>
            <a:ext cx="345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ahoma"/>
              </a:rPr>
              <a:t>(2)have a desire for </a:t>
            </a:r>
            <a:r>
              <a:rPr b="0" lang="zh-CN" sz="2400" spc="-1" strike="noStrike">
                <a:solidFill>
                  <a:srgbClr val="ff0066"/>
                </a:solidFill>
                <a:latin typeface="Tahoma"/>
              </a:rPr>
              <a:t>想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30840" y="2590920"/>
            <a:ext cx="51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ahoma"/>
              </a:rPr>
              <a:t>We’ll go for a walk if you feel lik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40560" y="2971800"/>
            <a:ext cx="50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I don’t feel like (eating) a big me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66960" y="3276720"/>
            <a:ext cx="217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ahoma"/>
              </a:rPr>
              <a:t>2.so/as far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09320" y="3581280"/>
            <a:ext cx="29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ahoma"/>
              </a:rPr>
              <a:t>(1)</a:t>
            </a:r>
            <a:r>
              <a:rPr b="0" lang="zh-CN" sz="2400" spc="-1" strike="noStrike">
                <a:solidFill>
                  <a:srgbClr val="ff0066"/>
                </a:solidFill>
                <a:latin typeface="Tahoma"/>
              </a:rPr>
              <a:t>就</a:t>
            </a:r>
            <a:r>
              <a:rPr b="0" lang="zh-CN" sz="2400" spc="-1" strike="noStrike">
                <a:solidFill>
                  <a:srgbClr val="ff0066"/>
                </a:solidFill>
                <a:latin typeface="Tahoma"/>
              </a:rPr>
              <a:t>···</a:t>
            </a:r>
            <a:r>
              <a:rPr b="0" lang="zh-CN" sz="2400" spc="-1" strike="noStrike">
                <a:solidFill>
                  <a:srgbClr val="ff0066"/>
                </a:solidFill>
                <a:latin typeface="Tahoma"/>
              </a:rPr>
              <a:t>来说， 在</a:t>
            </a:r>
            <a:r>
              <a:rPr b="0" lang="zh-CN" sz="2400" spc="-1" strike="noStrike">
                <a:solidFill>
                  <a:srgbClr val="ff0066"/>
                </a:solidFill>
                <a:latin typeface="Tahoma"/>
              </a:rPr>
              <a:t>···</a:t>
            </a:r>
            <a:r>
              <a:rPr b="0" lang="zh-CN" sz="2400" spc="-1" strike="noStrike">
                <a:solidFill>
                  <a:srgbClr val="ff0066"/>
                </a:solidFill>
                <a:latin typeface="Tahoma"/>
              </a:rPr>
              <a:t>范围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50560" y="3886200"/>
            <a:ext cx="73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So far as I know he will be away for three month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28960" y="4191120"/>
            <a:ext cx="800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As far as I could see, it is a matter of great import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36240" y="4495680"/>
            <a:ext cx="448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ahoma"/>
              </a:rPr>
              <a:t>He’ll help you as far as he c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83240" y="4800600"/>
            <a:ext cx="91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ahoma"/>
              </a:rPr>
              <a:t>(2)</a:t>
            </a:r>
            <a:r>
              <a:rPr b="0" lang="zh-CN" sz="2400" spc="-1" strike="noStrike">
                <a:solidFill>
                  <a:srgbClr val="ff0066"/>
                </a:solidFill>
                <a:latin typeface="Tahoma"/>
              </a:rPr>
              <a:t>至某一明确地点；同样远的距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73960" y="5138640"/>
            <a:ext cx="515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He walked as far as the post off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95280" y="55627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ahoma"/>
              </a:rPr>
              <a:t>We didn’t go as far as other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43000" y="5410080"/>
            <a:ext cx="71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WS_044" descr=""/>
          <p:cNvPicPr/>
          <p:nvPr/>
        </p:nvPicPr>
        <p:blipFill>
          <a:blip r:embed="rId1"/>
          <a:stretch/>
        </p:blipFill>
        <p:spPr>
          <a:xfrm>
            <a:off x="7467480" y="4572000"/>
            <a:ext cx="1222560" cy="2035080"/>
          </a:xfrm>
          <a:prstGeom prst="rect">
            <a:avLst/>
          </a:prstGeom>
          <a:ln w="0">
            <a:noFill/>
          </a:ln>
        </p:spPr>
      </p:pic>
      <p:pic>
        <p:nvPicPr>
          <p:cNvPr id="132" name="line10" descr=""/>
          <p:cNvPicPr/>
          <p:nvPr/>
        </p:nvPicPr>
        <p:blipFill>
          <a:blip r:embed="rId2"/>
          <a:stretch/>
        </p:blipFill>
        <p:spPr>
          <a:xfrm>
            <a:off x="2514600" y="838080"/>
            <a:ext cx="3703680" cy="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ccff"/>
            </a:gs>
            <a:gs pos="100000">
              <a:srgbClr val="9aea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352880" y="585720"/>
            <a:ext cx="403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Tahoma"/>
              </a:rPr>
              <a:t>3.would rather do…</a:t>
            </a:r>
            <a:r>
              <a:rPr b="1" lang="zh-CN" sz="2400" spc="-1" strike="noStrike">
                <a:solidFill>
                  <a:srgbClr val="ff3399"/>
                </a:solidFill>
                <a:latin typeface="Tahoma"/>
              </a:rPr>
              <a:t>宁愿干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57320" y="947880"/>
            <a:ext cx="572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e would rather not go to see the fil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19320" y="1447920"/>
            <a:ext cx="77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e would rather go there on foot than ride a bicyc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26800" y="2286000"/>
            <a:ext cx="39585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ahoma"/>
              </a:rPr>
              <a:t>C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I prefer walking to cyc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He prefer tea to coff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I wouldn’t like to do that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45880" y="1828800"/>
            <a:ext cx="458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’d rather have tea than coff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86960" y="4267080"/>
            <a:ext cx="38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Tahoma"/>
              </a:rPr>
              <a:t>4.personally </a:t>
            </a:r>
            <a:r>
              <a:rPr b="1" lang="zh-CN" sz="2400" spc="-1" strike="noStrike">
                <a:solidFill>
                  <a:srgbClr val="ff3399"/>
                </a:solidFill>
                <a:latin typeface="Tahoma"/>
              </a:rPr>
              <a:t>就自己而言；亲自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82880" y="4800600"/>
            <a:ext cx="630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ersonally, I don’t think much of your id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15200" y="5334120"/>
            <a:ext cx="665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e showed me around the school personal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ZW_015" descr=""/>
          <p:cNvPicPr/>
          <p:nvPr/>
        </p:nvPicPr>
        <p:blipFill>
          <a:blip r:embed="rId1"/>
          <a:stretch/>
        </p:blipFill>
        <p:spPr>
          <a:xfrm>
            <a:off x="6781680" y="2286000"/>
            <a:ext cx="892440" cy="1828800"/>
          </a:xfrm>
          <a:prstGeom prst="rect">
            <a:avLst/>
          </a:prstGeom>
          <a:ln w="0">
            <a:noFill/>
          </a:ln>
        </p:spPr>
      </p:pic>
      <p:pic>
        <p:nvPicPr>
          <p:cNvPr id="142" name="ZW_020" descr=""/>
          <p:cNvPicPr/>
          <p:nvPr/>
        </p:nvPicPr>
        <p:blipFill>
          <a:blip r:embed="rId2"/>
          <a:stretch/>
        </p:blipFill>
        <p:spPr>
          <a:xfrm>
            <a:off x="457200" y="5791320"/>
            <a:ext cx="789120" cy="70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ccff"/>
            </a:gs>
            <a:gs pos="100000">
              <a:srgbClr val="9aea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922320" y="304920"/>
            <a:ext cx="61182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ahoma"/>
              </a:rPr>
              <a:t>Make up sentences using the follo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ahoma"/>
              </a:rPr>
              <a:t>sentence structu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29160" y="1143000"/>
            <a:ext cx="19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1.I feel lik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9080" y="1523880"/>
            <a:ext cx="30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2.I’d rather(not)d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16920" y="1905120"/>
            <a:ext cx="293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3.As far as I know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35640" y="2286000"/>
            <a:ext cx="23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4.I’m ready t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23040" y="27432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ahoma"/>
              </a:rPr>
              <a:t>Transl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836720" y="3124080"/>
            <a:ext cx="504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1.</a:t>
            </a: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我想</a:t>
            </a: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(feel like)</a:t>
            </a: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去看电影，你愿意同我一道去吗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58320" y="3505320"/>
            <a:ext cx="785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ahoma"/>
              </a:rPr>
              <a:t>I feel like going to the cinema.Would you like to go with m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594520" y="3886200"/>
            <a:ext cx="37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2.</a:t>
            </a: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就我自己而言，我宁愿发</a:t>
            </a: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e-mail</a:t>
            </a: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给他而不愿写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51120" y="4343400"/>
            <a:ext cx="636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ahoma"/>
              </a:rPr>
              <a:t>Personally, I’d rather e-mail him than write hi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105000" y="4800600"/>
            <a:ext cx="298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3.</a:t>
            </a: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我打算</a:t>
            </a: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(intend to)</a:t>
            </a: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明天去看有关太空和卫星的展览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15480" y="5340240"/>
            <a:ext cx="724140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ahoma"/>
              </a:rPr>
              <a:t>I intend to see the exhibition about space and satell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ahoma"/>
              </a:rPr>
              <a:t>tomorro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W_006" descr=""/>
          <p:cNvPicPr/>
          <p:nvPr/>
        </p:nvPicPr>
        <p:blipFill>
          <a:blip r:embed="rId1"/>
          <a:stretch/>
        </p:blipFill>
        <p:spPr>
          <a:xfrm>
            <a:off x="6781680" y="1143000"/>
            <a:ext cx="1063800" cy="13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ccff"/>
            </a:gs>
            <a:gs pos="100000">
              <a:srgbClr val="9aea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RW_011" descr=""/>
          <p:cNvPicPr/>
          <p:nvPr/>
        </p:nvPicPr>
        <p:blipFill>
          <a:blip r:embed="rId1"/>
          <a:stretch/>
        </p:blipFill>
        <p:spPr>
          <a:xfrm>
            <a:off x="7772400" y="457200"/>
            <a:ext cx="1143000" cy="9144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685800" y="-571680"/>
            <a:ext cx="779292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66"/>
                </a:solidFill>
                <a:latin typeface="Tahoma"/>
              </a:rPr>
              <a:t>Make </a:t>
            </a:r>
            <a:r>
              <a:rPr b="0" i="1" lang="en-US" sz="2800" spc="-1" strike="noStrike">
                <a:solidFill>
                  <a:srgbClr val="ff3399"/>
                </a:solidFill>
                <a:latin typeface="Tahoma"/>
              </a:rPr>
              <a:t>up</a:t>
            </a:r>
            <a:r>
              <a:rPr b="0" i="1" lang="en-US" sz="2800" spc="-1" strike="noStrike">
                <a:solidFill>
                  <a:srgbClr val="ff0066"/>
                </a:solidFill>
                <a:latin typeface="Tahoma"/>
              </a:rPr>
              <a:t> dialogues using the following situ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3886200"/>
            <a:ext cx="914400" cy="609480"/>
          </a:xfrm>
          <a:prstGeom prst="cloudCallout">
            <a:avLst>
              <a:gd name="adj1" fmla="val 56250"/>
              <a:gd name="adj2" fmla="val -12994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752480" y="3048120"/>
            <a:ext cx="1676520" cy="1904760"/>
          </a:xfrm>
          <a:prstGeom prst="cloudCallout">
            <a:avLst>
              <a:gd name="adj1" fmla="val -117800"/>
              <a:gd name="adj2" fmla="val 8308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1752480"/>
            <a:ext cx="4191120" cy="5105520"/>
          </a:xfrm>
          <a:prstGeom prst="cloudCallout">
            <a:avLst>
              <a:gd name="adj1" fmla="val -36287"/>
              <a:gd name="adj2" fmla="val -57305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33"/>
                </a:solidFill>
                <a:latin typeface="Tahoma"/>
              </a:rPr>
              <a:t>Situation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ahoma"/>
              </a:rPr>
              <a:t>Students A &amp; B are talking about going to see a film about space and satellites at Jiaojiang Theatre on Saturday eve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5333760" y="1219320"/>
            <a:ext cx="3657600" cy="5410080"/>
          </a:xfrm>
          <a:prstGeom prst="cloudCallout">
            <a:avLst>
              <a:gd name="adj1" fmla="val 65578"/>
              <a:gd name="adj2" fmla="val 4770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952880" y="1905120"/>
            <a:ext cx="3962520" cy="4647960"/>
          </a:xfrm>
          <a:prstGeom prst="cloudCallout">
            <a:avLst>
              <a:gd name="adj1" fmla="val -49680"/>
              <a:gd name="adj2" fmla="val -6311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943600" y="3200400"/>
            <a:ext cx="3276720" cy="3200400"/>
          </a:xfrm>
          <a:prstGeom prst="cloudCallout">
            <a:avLst>
              <a:gd name="adj1" fmla="val -80569"/>
              <a:gd name="adj2" fmla="val -84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181480" y="2057400"/>
            <a:ext cx="3962520" cy="4800600"/>
          </a:xfrm>
          <a:prstGeom prst="cloudCallout">
            <a:avLst>
              <a:gd name="adj1" fmla="val 35055"/>
              <a:gd name="adj2" fmla="val -61773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ahoma"/>
              </a:rPr>
              <a:t>Situation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Tom and Lin Ming are talking about making a model spaceship on Sun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RW_012" descr=""/>
          <p:cNvPicPr/>
          <p:nvPr/>
        </p:nvPicPr>
        <p:blipFill>
          <a:blip r:embed="rId2"/>
          <a:stretch/>
        </p:blipFill>
        <p:spPr>
          <a:xfrm>
            <a:off x="152280" y="533520"/>
            <a:ext cx="8002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ccff"/>
            </a:gs>
            <a:gs pos="100000">
              <a:srgbClr val="9aea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SUN_04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3529080" y="2952720"/>
            <a:ext cx="208584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French Script MT"/>
              </a:rPr>
              <a:t>Goodbye</a:t>
            </a:r>
            <a:endParaRPr b="1" i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French Script MT"/>
              <a:ea typeface="French Script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0T07:59:53Z</dcterms:created>
  <dc:creator>Terence</dc:creator>
  <dc:description/>
  <dc:language>en-US</dc:language>
  <cp:lastModifiedBy>Terence</cp:lastModifiedBy>
  <dcterms:modified xsi:type="dcterms:W3CDTF">2002-02-23T11:18:42Z</dcterms:modified>
  <cp:revision>19</cp:revision>
  <dc:subject/>
  <dc:title>PowerPoint 演示文稿</dc:title>
</cp:coreProperties>
</file>